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EE1-E11F-4612-BD85-26525631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14A-5B0B-4D8B-838A-E8A5C226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AFC-984A-43C1-8FF6-39A9F4D1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FA7-BC92-4DF8-9110-345172E9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772400" cy="187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511-0794-4FEE-9604-605A4F5A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CBC-CAC6-4407-8518-FC5F3EFC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FAE-1670-472A-9C1C-3DB5002A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B5F-D50E-45A7-9F6C-0B52DAA9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772400" cy="187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75F-E733-4620-B93C-FCD76433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E23-8FC4-4D2F-93F8-36BBF81E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9C0-03A1-432C-855A-DDE4E1BB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809-21E1-4B22-98DB-AE8B37DE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8113-95B6-4E72-AC28-ABBDF8FE4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75720" y="752400"/>
            <a:ext cx="1258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 – 9,5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75720" y="2357280"/>
            <a:ext cx="1258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75720" y="3962520"/>
            <a:ext cx="1258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 – 9,5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75720" y="5565600"/>
            <a:ext cx="1258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3080" y="752400"/>
            <a:ext cx="1258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 – 9,5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13080" y="2357280"/>
            <a:ext cx="1258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3080" y="3962520"/>
            <a:ext cx="1258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 – 9,5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13080" y="5565600"/>
            <a:ext cx="1258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W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• 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0"/>
            <a:ext cx="4572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W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• 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681520" y="3828960"/>
            <a:ext cx="601920" cy="682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95880" y="1704960"/>
            <a:ext cx="1573200" cy="1801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681520" y="622440"/>
            <a:ext cx="601920" cy="68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195880" y="4915080"/>
            <a:ext cx="1573200" cy="1801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241280" y="3832200"/>
            <a:ext cx="601920" cy="682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755640" y="1704960"/>
            <a:ext cx="1573200" cy="1801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241280" y="622440"/>
            <a:ext cx="601920" cy="682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755640" y="4915080"/>
            <a:ext cx="15732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15:29:22Z</dcterms:created>
  <dc:creator>*</dc:creator>
  <dc:description/>
  <dc:language>en-US</dc:language>
  <cp:lastModifiedBy>Werner Messinger</cp:lastModifiedBy>
  <dcterms:modified xsi:type="dcterms:W3CDTF">2008-03-24T21:35:42Z</dcterms:modified>
  <cp:revision>58</cp:revision>
  <dc:subject/>
  <dc:title>VW Bank USA Logo</dc:title>
</cp:coreProperties>
</file>